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move the slide</a:t>
            </a:r>
            <a:endParaRPr b="0" lang="en-US" sz="4200" spc="-1" strike="noStrike">
              <a:solidFill>
                <a:srgbClr val="66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FC52F-F3D0-40FA-9757-E30292409D76}"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94A5C-18F2-4304-B97E-F044ADBB9AA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συμμετοχή σε στάση (sedition) αναφέρεται στην υποστήριξη μιας εξέγερσης ή ανταρσίας κατά του κράτου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Αντίθετα, η προδοσία είναι το έγκλημα της αθέτησης της αφοσίωσης σε ένα κράτος, για παράδειγμα με την παροχή βοήθειας στους εχθρούς τ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80730-6AB6-4DF1-BAD5-EC6803133A2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πρώτο κύμα αποαποικιοποίησης έλαβε χώρα στις αρχές του 19ου αιώνα, στις ισπανικές και πορτογαλικές περιοχές της Λατινικής Αμερικής, όπου αποικιοκράτες έποικοι διαφέντευαν, χωρίς όμως να εξολοθρεύσουν τους ιθαγενείς πληθυσμούς. Το αποτέλεσμα του πρώτου κύματος αποαποικιοποίησης στη Λατινική Αμερική, δεν γέννησε ένα συνταγματικό κράτος. Στην πρωτεύουσα, η εξουσία βρισκόταν στα χέρια δυναστών. Στην ενδοχώρα, όπου υπήρχαν πλούσιοι φυσικοί πόροι προς εξαγωγή, τα πράγματα ήλεγχαν ισχυρά πρόσωπα που ονομάζονταν caudill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δεύτερο κύμα δημιουργίας μετα-αποικιακών κρατών έλαβε χώρα στην Ευρώπη και τη Μέση Ανατολή, με την οριστική κατάρρευση των πολυεθνικών και πολυθρησκευτικών αυτοκρατοριών: της Αυστροουγγρικής Αυτοκρατορίας, της Οθωμανικής Αυτοκρατορίας και της Ρωσικής Αυτοκρατορίας προς το τέλος του Α' Παγκόσμιου Πολέμου.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τρίτο και μεγαλύτερο κύμα δημιουργίας νέων κρατών έλαβε χώρα μετά το 1945, όταν οι κατεστραμμένες από τον πόλεμο ευρωπαϊκές δυνάμεις άρχισαν να εγκαταλείπουν τις αυτοκρατορίες τους (Spruyt, 2005). Ασιατικές χώρες όπως οι Φιλιππίνες (1946) και η Ινδία (1947) ήταν οι πρώτες που απέκτησαν την ανεξαρτησία τους. Ακολούθησαν πολλές ακόμη αποικίες στην Αφρική, στην Καραϊβική και στη Μέση Ανατολή.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τέταρτο και τελευταίο κύμα δημιουργίας νέων κρατών έλαβε χώρα την τελευταία δεκαετία του 20ού αιώνα, με την κατάρρευση του κομμουνισμού. Οι χώρες της</a:t>
            </a:r>
            <a:r>
              <a:rPr b="0" lang="en-US" sz="1200" spc="-1" strike="noStrike">
                <a:solidFill>
                  <a:srgbClr val="000000"/>
                </a:solidFill>
                <a:latin typeface="Arial"/>
              </a:rPr>
              <a:t> </a:t>
            </a:r>
            <a:r>
              <a:rPr b="0" lang="el-GR" sz="1200" spc="-1" strike="noStrike">
                <a:solidFill>
                  <a:srgbClr val="000000"/>
                </a:solidFill>
                <a:latin typeface="Arial"/>
              </a:rPr>
              <a:t>Βαλτικής και πολλά άλλα σοβιετικά κράτη-δορυφόροι της Ανατολικής Ευρώπης, όπως η Ουγγαρία, η Πολωνία και η Ρουμανία, κατόρθωσαν να αποκτήσουν την ανεξαρτησία</a:t>
            </a:r>
            <a:r>
              <a:rPr b="0" lang="en-US" sz="1200" spc="-1" strike="noStrike">
                <a:solidFill>
                  <a:srgbClr val="000000"/>
                </a:solidFill>
                <a:latin typeface="Arial"/>
              </a:rPr>
              <a:t> </a:t>
            </a:r>
            <a:r>
              <a:rPr b="0" lang="el-GR" sz="1200" spc="-1" strike="noStrike">
                <a:solidFill>
                  <a:srgbClr val="000000"/>
                </a:solidFill>
                <a:latin typeface="Arial"/>
              </a:rPr>
              <a:t>τους χάρη στη διάλυση του κομμουνιστικού συνασπισμού στον οποίο κυριαρχούσε προηγουμένως η Σοβιετική Ένωση. Επιπλέον, η ίδια η Σοβιετική Ένωση -που ήταν</a:t>
            </a:r>
            <a:r>
              <a:rPr b="0" lang="en-US" sz="1200" spc="-1" strike="noStrike">
                <a:solidFill>
                  <a:srgbClr val="000000"/>
                </a:solidFill>
                <a:latin typeface="Arial"/>
              </a:rPr>
              <a:t> </a:t>
            </a:r>
            <a:r>
              <a:rPr b="0" lang="el-GR" sz="1200" spc="-1" strike="noStrike">
                <a:solidFill>
                  <a:srgbClr val="000000"/>
                </a:solidFill>
                <a:latin typeface="Arial"/>
              </a:rPr>
              <a:t>ουσιαστικά ρωσική αυτοκρατορία- διαλύθηκε σε 15 διάδοχα κράτη, μεταξύ των οποίων περιλαμβάνονται η Ουκρανία, το Ουζμπεκιστάν και, φυσικά, η ίδια η Ρωσία.</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1138C-DC67-4250-B5C4-9C4BB46A860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κράτη που έχουν καταρρεύσει (collapsed state) ορίζονται συχνά από θεσμική άποψη, ως οι χώρες όπου έχει καταλυθεί η κρατική οργάνωση, δίνοντας τη θέση της πρακτικά σε ιδιωτικούς και υποεθνικούς φορείς.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0630B-6858-4DAE-85BF-286484A20E7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ιδέα του αποτυχημένου κράτους (failed state) είναι στενά συνδεδεμένη με την έννοια του κράτους που έχει καταρρεύσει, συνήθως, όμως, ορίζεται λειτουργικά ως η αδυναμία του κράτους να επιτελέσει τον κύριο ρόλο του, που είναι η άσκηση του μονοπωλίου της νόμιμης βίας εντός της επικράτειάς του.</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EEEDD-D6AB-45F3-9182-741DB8CA1B8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διακυβερνητικοί οργανισμοί (intergovernmental organizations) (ΔΚΟ) είναι οργανώσεις στις οποίες μετέχουν κράτη. Οι ΔΚΟ ιδρύονται βάσει συνθηκών και συνήθως λειτουργούν με την αρχή της συναίνεσης, διαθέτοντας μόνιμη γραμματεί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1433E-3AEB-4058-BB67-D7F777545A9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έναν κόσμο κρατών που συμπληρώνονται από διεθνείς οργανισμούς, η Ευρωπαϊκή Ένωση (ΕΕ) ξεχωρίζει. Είναι ένας μοναδικός υβριδικός θεσμός που συνδυάζει υπερεθνικά και διακυβερνητικά στοιχεία. Η Ευρωπαϊκή Ένωση αποτελεί το πιο εξελιγμένο εγχείρημα περιφερειακής ολοκλήρωσης παγκοσμίως.</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E2CB1-C198-4805-B91D-4E1D5C6C740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Συμφωνία Σένγκεν (Schengen Agreement) αφορά την κατάργηση των συνοριακών ελέγχων εντός της Ένωσης για τη μετακίνηση των προσώπων - περιλαμβανομένων των πολιτών τρίτων χωρών.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l-GR" sz="1200" spc="-1" strike="noStrike">
                <a:solidFill>
                  <a:srgbClr val="000000"/>
                </a:solidFill>
                <a:latin typeface="Arial"/>
              </a:rPr>
              <a:t>Υπεγράφη αρχικά από πέντε κράτη-μέλη της ΕΕ το 1985. Σήμερα, έχουν ενταχθεί στη συμφωνία τα περισσότερα κράτη-μέλη της ΕΕ, όπως επίσης και η Νορβηγία και η Ισλανδία.</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A0E7B-C7DB-4DB7-9D71-107889F3E2E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όρος ενοποίηση πολλών ταχυτήτων (differentiated integration) αναφέρεται στην κατάσταση όπου ορισμένα και όχι όλα τα μέλη μιας κοινότητας συμμετέχουν στην εμβάθυνση της Ένωσης συνολικά.</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74934-F006-4A64-B12C-B97937079B6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διεθνείς μη κυβερνητικές οργανώσεις (international non-governmental organizations) (συνήθως αποκαλούνται με το αρκτικόλεξο NGOs - ΜΚΟ) είναι πρόσωπα ιδιωτικού δικαίου, και τα μέλη ή οι ομάδες που συμμετέχουν σε αυτές προέρχονται από περισσότερες από μία χώρες. Σε αυτή την κατηγορία εντάσσονται ο Διεθνής Ερυθρός Σταυρός, η Greenpeace και η Ρωμαιοκαθολική Εκκλησί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82214-E5AB-4936-8D0C-A31F80DA42A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ήμερα θεωρούμε δεδομένη τη διαίρεση του κόσμου σε κράτη, δεν θα πρέπει να θεωρήσουμε, όμως, ότι το κράτος υπήρξε πάντα ή θα παραμείνει επ' άπειρον το κυρίαρχο πρότυπο πολιτικής οργάνωσης. Κόσμος υπήρχε και πριν από την εμφάνιση των κρατών και, όπως υποστηρίζουν ακούραστα οι θιασώτες τα</a:t>
            </a:r>
            <a:r>
              <a:rPr b="0" lang="en-US" sz="1200" spc="-1" strike="noStrike">
                <a:solidFill>
                  <a:srgbClr val="000000"/>
                </a:solidFill>
                <a:latin typeface="Arial"/>
              </a:rPr>
              <a:t> </a:t>
            </a:r>
            <a:r>
              <a:rPr b="0" lang="el-GR" sz="1200" spc="-1" strike="noStrike">
                <a:solidFill>
                  <a:srgbClr val="000000"/>
                </a:solidFill>
                <a:latin typeface="Arial"/>
              </a:rPr>
              <a:t>της παγκοσμιοποίησης, είναι δυνατόν να υπάρξει και στο μέλλον κόσμος χωρίς αυτά.</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ιρήνη της Βεστφαλίας (1648) θεωρείται ορόσημο στην εμφάνιση του κράτους. Τερματίζοντας τον Τριακονταετή Πόλεμο, έδωσε στους εδαφικούς ηγεμόνες μεγαλύτερο έλεγχο επί της λειτουργίας της θρησκείας στην επικράτειά τους, επικυρώνοντας τη φθίνουσα υπερεθνική εξουσία της Εκκλησίας.</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B372F-74EC-4434-A60D-796378AF5BF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ν ανάπτυξη της κεντρικής εξουσίας στην Ευρώπη αναδείχθηκε παράλληλα και η ανάγκη για τη θεωρητική θεμελίωσή της. Η κρίσιμη καινοτομία εδώ αφορούσε την αντίληψη της κυριαρχίας, όπως αυτή εξημερώθηκε αργότερα από τις έννοιες του συμβολαίου και της συναίνεση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γάλλος φιλόσοφος Jean Bodin είχε μεγάλη συμβολή στη διαμόρφωση αυτής της νέας συγκεντρωτικής ιδεολογίας. Υποστήριζε ότι σε κάθε κοινωνία πρέπει να υφίσταται ενιαία εξουσία, η οποία πρέπει να είναι υπεύθυνη για τη νομοθεσία, για τον πόλεμο και την ειρήνη, για τους διορισμούς, τη δικαιοσύνη και το νόμισμα.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άγγλος φιλόσοφος, Thomas Hobbes επέκτεινε το επιχείρημα αυτό καθώς συμμεριζόταν την αντίληψη του Bodin όσον αφορά την αναγκαιότητα της ύπαρξης ενός ισχυρού ηγεμόνα. Χωρίς τέτοια αρχή που να επιβάλλει την ειρήνη, υποστήριζε ο Hobbes, η κοινωνία θα μαστιζόταν από εμφύλιο πόλεμο.</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αμα μιας κυβέρνησης που σχηματίζεται από και για χάρη των αρχομένων αναπτύχθηκε περαιτέρω από τον άγγλο φιλόσοφο John Locke (1632-1704), η σκέψη τού οποίου διαμόρφωσε το φιλελεύθερο όραμα του δυτικού κράτους που ενέπνευσε την Αμερικανική Επανάσταση τη δεκαετία του 1770.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AFE2A-A07C-43C9-8422-7E699DEFAA0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υτές οι ιδέες της κυριαρχίας, του συμβολαίου και της συναίνεσης αντανακλάστηκαν με διαφορετικούς τρόπους στα δύο μνημειώδη γεγονότα που σημάδεψαν την έλευση της νεωτερικότητας: στην Αμερικανική και τη Γαλλική Επανάσταση.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ηχώντας το πνεύμα του Locke, η Διακήρυξη της Ανεξαρτησίας (1776) δήλωσε τολμηρά ότι οι κυβερνήσεις αντλούν τη δίκαιη εξουσία τους από τη συναίνεση των κυβερνωμένων, ενώ το Αμερικανικό Σύνταγμα του 1787 ξεκινά με τη διάσημη ρήση: «Εμείς, ο λαός των Ηνωμένων Πολιτειών».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Γαλλική Επανάσταση του 1789 ήταν, όμως, αυτή που θα επιχειρούσε το πιο τολμηρό εγχείρημα, να ερμηνεύσει εκ νέου την έννοια της κυριαρχίας με δημοκρατικούς παρά με απλώς φιλελεύθερους όρου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ριζοσπαστικές αρχές της Γαλλικής Επανάστασης διατυπώθηκαν στη Διακήρυξη των δικαιωμάτων του ανθρώπου και του πολίτη, έγγραφο το οποίο ο Finer περιγράφει ως πρόπλασμα όλων των σύγχρονων κρατών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68A12-59B5-4E01-9CDF-8A9CB1A27C8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γενική βούληση (general will) ακολουθείται όταν οι πολίτες λαμβάνουν αποφάσεις με γνώμονα το συμφέρον της κοινωνίας συνολικά, και όχι των επιμέρους ομάδων και ατόμων. Αποτελεί κεντρικό όρο της σκέψης του γάλλου φιλοσόφου Jean Jacques Rousseau (1712-78), ενώ με τη μορφή της έννοιας του συλλογικού συμφέροντος εξακολουθεί να αντανακλάται στη δυσπιστία που καταγράφεται ως ένα βαθμό στη Γαλλία απέναντι στα επιμέρους συμφέροντα.</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2A948-A44B-420C-8A48-004464F825C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έννοια του ολοκληρωτικού πολέμου (total war) υπήρξε κομβική κατά τον 20ό αιώνα. Ο ολοκληρωτικός πόλεμος προϋπέθετε την κινητοποίηση του πληθυσμού για την υποστήριξη μιας σύγκρουσης που διεξαγόταν με εξελιγμένα οπλικά συστήματα σε ευρύτατη γεωγραφική κλίμακα. Οι πόλεμοι αυτοί διεξάγονταν ανάμεσα σε κράτη συνολικά, και όχι μόνο ανάμεσα στις ένοπλες δυνάμεις τους, με τους πολίτες να κινητοποιούνται στο όνομα του εθνικισμού. Ο ολοκληρωτικός πόλεμος προϋπέθετε τον ηγετικό ρόλο, την παρέμβαση και τη χρηματοδότηση του κράτου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93E79-F412-4CCA-9160-211FE035FBE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τά τη διαδικασία επέκτασης και αναδιάρθρωσής του το δυτικό κράτος παγίωσε τα παρακάτω χαρακτηριστικά</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γκεντρωτισμό - Διείσδυση της κεντρικής εξουσίας στο πλαίσιο καθορισμένης επικράτ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τυποποίηση - Μεγαλύτερη κοινωνική ομοιομορφί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ηχανισμούς εξουσίας - Ενίσχυση του μονοπωλίου της επιβολής της τάξ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ινητοποίηση - Αυξημένη δυνατότητα άντλησης πόρων από την κοινωνί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ιαφοροποίηση - Οι θεσμοί και οι υπάλληλοι του κράτους διαχωρίζονται όλο και περισσότερο από την κοινωνί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Λειτουργίες- Διεύρυνση του φάσματος των λειτουργιών που αναλαμβάνει το κράτος και ενίσχυση της κρατικής παρέμβασης στην κοινωνί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Μέγεθος - Διεύρυνση των οικονομικών μέσων και του προσωπικού του κράτους.</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06BA1-9E28-4B00-A351-1207703E82A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κεϊνσιανό κοινωνικό κράτος (keynesian welfare state) συνδύαζε αντικυκλικές οικονομικές πολιτικές για τον περιορισμό της ανεργίας, με την παροχή από το κράτος υπηρεσιών περίθαλψης και στέγασης και εγγυήσεων διατήρησης των εισοδημάτων.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μοντέλο αυτό έφτασε στο απόγειό του στη Δυτική Ευρώπη τη δεκαετία του '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07B0B-B759-434F-9B0B-469D79EA96C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νάδειξη μιας κατάστασης που έχει ονομαστεί και «κράτος ασφάλειας» προκάλεσε αναμενόμενα αντιδράσεις. Διάφορες ομάδες διατύπωσαν τις ανησυχίες τους:</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Για την ανάπτυξη μιας κοινωνίας παρακολούθησης.</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Για την απειλή που δέχονται οι πολιτικές ελευθερίες.</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Για την περιορισμένη λογοδοσία των μυστικών υπηρεσι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30CE9-8230-4A23-A635-85F45DD57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D52EA-A256-4C75-87EC-9CDB8C7BD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4F3CC-9BAD-4502-9808-B882D1CD6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85693-D5A6-433F-863F-C84DF73CBE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73C7F6-81A9-420C-99EC-83571700DB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BF6904-A39E-4F60-A6AB-617C3F673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15C542-D56D-435F-90F5-45E2AAF179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4D1727-CCD9-4AE8-B365-37EFBDE23F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B24913-2A1F-4865-8901-C843659A94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DCA189-60C3-4CC4-8763-23B938FA72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3D074-BDA3-4AA8-B562-6BA0C00C4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C2EE0-7807-4985-8735-9257E6198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816E4-EC6E-4DF2-80DE-60D2EA459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02AC5-F33D-4D17-8FEC-791BB06F2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86E2B2-82AC-43E4-8290-D13FBA3894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E738B8-B6B5-4EC6-9416-36C1F0B6DA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B6419C-4795-4984-AB14-D1D04DF730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7B166-4427-4FF5-89DC-8F04AA502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CBCED-E449-4621-A3DB-3402DD313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5601C-4323-4C06-9BAE-3CE86DF11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28FFF-8FBB-4E0B-ACB7-129CE91FE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5EA3C-2B0D-4654-99EC-EAC659605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0EA12-D7A2-4ECE-8276-8BA6F51F1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8C32A-C43D-41F4-9A6D-6B766922BE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377EE-52B5-4A32-AEBC-BB26591A3C28}"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1B01F-1417-433D-AD6C-6E527B67A13C}"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660033"/>
                </a:solidFill>
                <a:latin typeface="Times New Roman"/>
              </a:rPr>
              <a:t>Κεφάλαιο 4</a:t>
            </a:r>
            <a:endParaRPr b="0" lang="en-US" sz="4800" spc="-1" strike="noStrike">
              <a:solidFill>
                <a:srgbClr val="66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κράτο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Ασφάλεια και παρακολούθηση</a:t>
            </a:r>
            <a:endParaRPr b="0" lang="en-US" sz="4200" spc="-1" strike="noStrike">
              <a:solidFill>
                <a:srgbClr val="660033"/>
              </a:solidFill>
              <a:latin typeface="Times New Roman"/>
            </a:endParaRPr>
          </a:p>
        </p:txBody>
      </p:sp>
      <p:sp>
        <p:nvSpPr>
          <p:cNvPr id="12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συμμετοχή σε στάση (sedition) αναφέρεται στην υποστήριξη μιας εξέγερσης ή ανταρσίας κατά του κράτους.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τίθετα, η προδοσία είναι το έγκλημα της αθέτησης της αφοσίωσης σε ένα κράτος, για παράδειγμα με την παροχή βοήθειας στους εχθρούς το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Το μετα-αποικιακό κράτος </a:t>
            </a:r>
            <a:endParaRPr b="0" lang="en-US" sz="4200" spc="-1" strike="noStrike">
              <a:solidFill>
                <a:srgbClr val="660033"/>
              </a:solidFill>
              <a:latin typeface="Times New Roman"/>
            </a:endParaRPr>
          </a:p>
        </p:txBody>
      </p:sp>
      <p:sp>
        <p:nvSpPr>
          <p:cNvPr id="12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1</a:t>
            </a:r>
            <a:r>
              <a:rPr b="0" lang="el-GR" sz="2800" spc="-1" strike="noStrike" baseline="30000">
                <a:solidFill>
                  <a:srgbClr val="000000"/>
                </a:solidFill>
                <a:latin typeface="Arial"/>
              </a:rPr>
              <a:t>ο</a:t>
            </a:r>
            <a:r>
              <a:rPr b="0" lang="el-GR" sz="2800" spc="-1" strike="noStrike">
                <a:solidFill>
                  <a:srgbClr val="000000"/>
                </a:solidFill>
                <a:latin typeface="Arial"/>
              </a:rPr>
              <a:t> κύμα αποαποικιοποιησης</a:t>
            </a:r>
            <a:r>
              <a:rPr b="0" lang="en-US" sz="2800" spc="-1" strike="noStrike">
                <a:solidFill>
                  <a:srgbClr val="000000"/>
                </a:solidFill>
                <a:latin typeface="Arial"/>
              </a:rPr>
              <a:t>:</a:t>
            </a:r>
            <a:r>
              <a:rPr b="0" lang="el-GR" sz="2800" spc="-1" strike="noStrike">
                <a:solidFill>
                  <a:srgbClr val="000000"/>
                </a:solidFill>
                <a:latin typeface="Arial"/>
              </a:rPr>
              <a:t> 1810-38 </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Ο caudillo είναι ένα ισχυρό πολιτικό πρόσωπο, που διαφεντεύει συγκεκριμένη περιοχή, εξασφαλίζοντας την τάξη και αναμένοντας ως αντάλλαγμα την υποταγή του τοπικού πληθυσμού. </a:t>
            </a:r>
            <a:endParaRPr b="0" lang="en-US" sz="26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2</a:t>
            </a:r>
            <a:r>
              <a:rPr b="0" lang="el-GR" sz="2800" spc="-1" strike="noStrike" baseline="30000">
                <a:solidFill>
                  <a:srgbClr val="000000"/>
                </a:solidFill>
                <a:latin typeface="Arial"/>
              </a:rPr>
              <a:t>ο</a:t>
            </a:r>
            <a:r>
              <a:rPr b="0" lang="el-GR" sz="2800" spc="-1" strike="noStrike">
                <a:solidFill>
                  <a:srgbClr val="000000"/>
                </a:solidFill>
                <a:latin typeface="Arial"/>
              </a:rPr>
              <a:t> κύμα</a:t>
            </a:r>
            <a:r>
              <a:rPr b="0" lang="en-US" sz="2800" spc="-1" strike="noStrike">
                <a:solidFill>
                  <a:srgbClr val="000000"/>
                </a:solidFill>
                <a:latin typeface="Arial"/>
              </a:rPr>
              <a:t>:</a:t>
            </a:r>
            <a:r>
              <a:rPr b="0" lang="el-GR" sz="2800" spc="-1" strike="noStrike">
                <a:solidFill>
                  <a:srgbClr val="000000"/>
                </a:solidFill>
                <a:latin typeface="Arial"/>
              </a:rPr>
              <a:t> μετά τον πόλεμο του 1914-18</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l-GR" sz="2800" spc="-1" strike="noStrike" baseline="30000">
                <a:solidFill>
                  <a:srgbClr val="000000"/>
                </a:solidFill>
                <a:latin typeface="Arial"/>
              </a:rPr>
              <a:t>ο</a:t>
            </a:r>
            <a:r>
              <a:rPr b="0" lang="el-GR" sz="2800" spc="-1" strike="noStrike">
                <a:solidFill>
                  <a:srgbClr val="000000"/>
                </a:solidFill>
                <a:latin typeface="Arial"/>
              </a:rPr>
              <a:t> κύμα</a:t>
            </a:r>
            <a:r>
              <a:rPr b="0" lang="en-US" sz="2800" spc="-1" strike="noStrike">
                <a:solidFill>
                  <a:srgbClr val="000000"/>
                </a:solidFill>
                <a:latin typeface="Arial"/>
              </a:rPr>
              <a:t>:</a:t>
            </a:r>
            <a:r>
              <a:rPr b="0" lang="el-GR" sz="2800" spc="-1" strike="noStrike">
                <a:solidFill>
                  <a:srgbClr val="000000"/>
                </a:solidFill>
                <a:latin typeface="Arial"/>
              </a:rPr>
              <a:t> 1944-84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l-GR" sz="2800" spc="-1" strike="noStrike" baseline="30000">
                <a:solidFill>
                  <a:srgbClr val="000000"/>
                </a:solidFill>
                <a:latin typeface="Arial"/>
              </a:rPr>
              <a:t>ο</a:t>
            </a:r>
            <a:r>
              <a:rPr b="0" lang="el-GR" sz="2800" spc="-1" strike="noStrike">
                <a:solidFill>
                  <a:srgbClr val="000000"/>
                </a:solidFill>
                <a:latin typeface="Arial"/>
              </a:rPr>
              <a:t> κύμα</a:t>
            </a:r>
            <a:r>
              <a:rPr b="0" lang="en-US" sz="2800" spc="-1" strike="noStrike">
                <a:solidFill>
                  <a:srgbClr val="000000"/>
                </a:solidFill>
                <a:latin typeface="Arial"/>
              </a:rPr>
              <a:t>:</a:t>
            </a:r>
            <a:r>
              <a:rPr b="0" lang="el-GR" sz="2800" spc="-1" strike="noStrike">
                <a:solidFill>
                  <a:srgbClr val="000000"/>
                </a:solidFill>
                <a:latin typeface="Arial"/>
              </a:rPr>
              <a:t> 199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Κράτη που κατέρρευσαν και κρατική οικοδόμηση</a:t>
            </a:r>
            <a:endParaRPr b="0" lang="en-US" sz="3800" spc="-1" strike="noStrike">
              <a:solidFill>
                <a:srgbClr val="660033"/>
              </a:solidFill>
              <a:latin typeface="Times New Roman"/>
            </a:endParaRPr>
          </a:p>
        </p:txBody>
      </p:sp>
      <p:sp>
        <p:nvSpPr>
          <p:cNvPr id="12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α κράτη που έχουν καταρρεύσει (collapsed state) ορίζονται συχνά από θεσμική άποψη, ως οι χώρες όπου έχει καταλυθεί η κρατική οργάνωση, δίνοντας τη θέση της πρακτικά σε ιδιωτικούς και υποεθνικούς φορεί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Κράτη που κατέρρευσαν και κρατική οικοδόμηση</a:t>
            </a:r>
            <a:endParaRPr b="0" lang="en-US" sz="3800" spc="-1" strike="noStrike">
              <a:solidFill>
                <a:srgbClr val="660033"/>
              </a:solidFill>
              <a:latin typeface="Times New Roman"/>
            </a:endParaRPr>
          </a:p>
        </p:txBody>
      </p:sp>
      <p:sp>
        <p:nvSpPr>
          <p:cNvPr id="12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ιδέα του αποτυχημένου κράτους (failed state) είναι στενά συνδεδεμένη με την έννοια του κράτους που έχει καταρρεύσει, συνήθως, όμως, ορίζεται λειτουργικά ως η αδυναμία του κράτους να επιτελέσει τον κύριο ρόλο του, που είναι η άσκηση του μονοπωλίου της νόμιμης βίας εντός της επικράτειάς το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Πέρα από το κράτος</a:t>
            </a:r>
            <a:endParaRPr b="0" lang="en-US" sz="4200" spc="-1" strike="noStrike">
              <a:solidFill>
                <a:srgbClr val="660033"/>
              </a:solidFill>
              <a:latin typeface="Times New Roman"/>
            </a:endParaRPr>
          </a:p>
        </p:txBody>
      </p:sp>
      <p:sp>
        <p:nvSpPr>
          <p:cNvPr id="13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διακυβερνητικοί οργανισμοί (intergovernmental organizations) (ΔΚΟ) είναι οργανώσεις στις οποίες μετέχουν κράτη. Οι ΔΚΟ ιδρύονται βάσει συνθηκών και συνήθως λειτουργούν με την αρχή της συναίνεσης, διαθέτοντας μόνιμη γραμματεί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Πέρα από το κράτος</a:t>
            </a:r>
            <a:endParaRPr b="0" lang="en-US" sz="4200" spc="-1" strike="noStrike">
              <a:solidFill>
                <a:srgbClr val="660033"/>
              </a:solidFill>
              <a:latin typeface="Times New Roman"/>
            </a:endParaRPr>
          </a:p>
        </p:txBody>
      </p:sp>
      <p:sp>
        <p:nvSpPr>
          <p:cNvPr id="13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Ευρωπαϊκή Ένωση</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Σε έναν κόσμο κρατών που συμπληρώνονται από διεθνείς οργανισμούς, η Ευρωπαϊκή Ένωση (ΕΕ) ξεχωρίζει. Είναι ένας μοναδικός υβριδικός θεσμός που συνδυάζει υπερεθνικά και διακυβερνητικά στοιχεία. Η Ευρωπαϊκή Ένωση αποτελεί το πιο εξελιγμένο εγχείρημα περιφερειακής ολοκλήρωσης παγκοσμίως.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Πέρα από το κράτος</a:t>
            </a:r>
            <a:endParaRPr b="0" lang="en-US" sz="4200" spc="-1" strike="noStrike">
              <a:solidFill>
                <a:srgbClr val="660033"/>
              </a:solidFill>
              <a:latin typeface="Times New Roman"/>
            </a:endParaRPr>
          </a:p>
        </p:txBody>
      </p:sp>
      <p:sp>
        <p:nvSpPr>
          <p:cNvPr id="13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Συμφωνία Σένγκεν (Schengen Agreement) αφορά την κατάργηση των συνοριακών ελέγχων εντός της Ένωσης για τη μετακίνηση των προσώπων - περιλαμβανομένων των πολιτών τρίτων χωρών.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Πέρα από το κράτος</a:t>
            </a:r>
            <a:endParaRPr b="0" lang="en-US" sz="4200" spc="-1" strike="noStrike">
              <a:solidFill>
                <a:srgbClr val="660033"/>
              </a:solidFill>
              <a:latin typeface="Times New Roman"/>
            </a:endParaRPr>
          </a:p>
        </p:txBody>
      </p:sp>
      <p:sp>
        <p:nvSpPr>
          <p:cNvPr id="13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όρος ενοποίηση πολλών ταχυτήτων (differentiated integration) αναφέρεται στην κατάσταση όπου ορισμένα και όχι όλα τα μέλη μιας κοινότητας συμμετέχουν στην εμβάθυνση της Ένωσης συνολικ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Πέρα από το κράτος</a:t>
            </a:r>
            <a:endParaRPr b="0" lang="en-US" sz="4200" spc="-1" strike="noStrike">
              <a:solidFill>
                <a:srgbClr val="660033"/>
              </a:solidFill>
              <a:latin typeface="Times New Roman"/>
            </a:endParaRPr>
          </a:p>
        </p:txBody>
      </p:sp>
      <p:sp>
        <p:nvSpPr>
          <p:cNvPr id="13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διεθνείς μη κυβερνητικές οργανώσεις (international non-governmental organizations) (συνήθως αποκαλούνται με το αρκτικόλεξο NGOs - ΜΚΟ) είναι πρόσωπα ιδιωτικού δικαίου, και τα μέλη ή οι ομάδες που συμμετέχουν σε αυτές προέρχονται από περισσότερες από μία χώρε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4 - TextBox"/>
          <p:cNvSpPr/>
          <p:nvPr/>
        </p:nvSpPr>
        <p:spPr>
          <a:xfrm>
            <a:off x="1219320" y="2328840"/>
            <a:ext cx="7010280" cy="1922760"/>
          </a:xfrm>
          <a:prstGeom prst="rect">
            <a:avLst/>
          </a:prstGeom>
          <a:noFill/>
          <a:ln w="9360">
            <a:solidFill>
              <a:srgbClr val="d3d31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Απαγορεύεται η αναδημοσίευση ή αναπαραγωγή του παρόντος έργου με οποιονδήποτε τρόπο χωρίς γραπτή άδεια του εκδότη, σύμφωνα με το Ν. 2121/1993 και τη Διεθνή Σύμβαση της Βέρνης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που έχει κυρωθεί με τον Ν. 100/1975)</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Εμφάνιση, επέκταση και αναδιάρθρωση </a:t>
            </a:r>
            <a:endParaRPr b="0" lang="en-US" sz="3800" spc="-1" strike="noStrike">
              <a:solidFill>
                <a:srgbClr val="66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μφάνιση</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Η Ειρήνη της Βεστφαλίας (1648) θεωρείται ορόσημο στην εμφάνιση του κράτους. Τερματίζοντας τον Τριακονταετή Πόλεμο, έδωσε στους εδαφικούς ηγεμόνες μεγαλύτερο έλεγχο επί της λειτουργίας της θρησκείας στην επικράτειά τους, επικυρώνοντας τη φθίνουσα υπερεθνική εξουσία της Εκκλησία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Εμφάνιση, επέκταση και αναδιάρθρωση</a:t>
            </a:r>
            <a:endParaRPr b="0" lang="en-US" sz="3800" spc="-1" strike="noStrike">
              <a:solidFill>
                <a:srgbClr val="66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τίληψη της κυριαρχίας</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ean Bodin: </a:t>
            </a:r>
            <a:r>
              <a:rPr b="0" lang="el-GR" sz="2600" spc="-1" strike="noStrike">
                <a:solidFill>
                  <a:srgbClr val="000000"/>
                </a:solidFill>
                <a:latin typeface="Arial"/>
              </a:rPr>
              <a:t>συγκεντρωτική ιδεολογία</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omas Hobbes:</a:t>
            </a:r>
            <a:r>
              <a:rPr b="0" lang="el-GR" sz="2600" spc="-1" strike="noStrike">
                <a:solidFill>
                  <a:srgbClr val="000000"/>
                </a:solidFill>
                <a:latin typeface="Arial"/>
              </a:rPr>
              <a:t> ηγεμόνα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hn Locke: </a:t>
            </a:r>
            <a:r>
              <a:rPr b="0" lang="el-GR" sz="2600" spc="-1" strike="noStrike">
                <a:solidFill>
                  <a:srgbClr val="000000"/>
                </a:solidFill>
                <a:latin typeface="Arial"/>
              </a:rPr>
              <a:t>φυσικά δικαιώματα</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Εμφάνιση, επέκταση και αναδιάρθρωση</a:t>
            </a:r>
            <a:endParaRPr b="0" lang="en-US" sz="3800" spc="-1" strike="noStrike">
              <a:solidFill>
                <a:srgbClr val="66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Έλευση της νεωτερικότητας</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Διακήρυξη αμερικανικής ανεξαρτησίας (1776)</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Γαλλική επανάσταση (1789) – Διακήρυξη των δικαιωμάτων του ανθρώπου και του πολίτη</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Εμφάνιση, επέκταση και αναδιάρθρωση</a:t>
            </a:r>
            <a:endParaRPr b="0" lang="en-US" sz="3800" spc="-1" strike="noStrike">
              <a:solidFill>
                <a:srgbClr val="660033"/>
              </a:solidFill>
              <a:latin typeface="Times New Roman"/>
            </a:endParaRPr>
          </a:p>
        </p:txBody>
      </p:sp>
      <p:sp>
        <p:nvSpPr>
          <p:cNvPr id="11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γενική βούληση (general will) ακολουθείται όταν οι πολίτες λαμβάνουν αποφάσεις με γνώμονα το συμφέρον της κοινωνίας συνολικά, και όχι των επιμέρους ομάδων και ατόμων.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Εμφάνιση, επέκταση και αναδιάρθρωση</a:t>
            </a:r>
            <a:endParaRPr b="0" lang="en-US" sz="3800" spc="-1" strike="noStrike">
              <a:solidFill>
                <a:srgbClr val="660033"/>
              </a:solidFill>
              <a:latin typeface="Times New Roman"/>
            </a:endParaRPr>
          </a:p>
        </p:txBody>
      </p:sp>
      <p:sp>
        <p:nvSpPr>
          <p:cNvPr id="11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έννοια του ολοκληρωτικού πολέμου (total war) υπήρξε κομβική κατά τον 20ό αιώνα. Ο ολοκληρωτικός πόλεμος προϋπέθετε την κινητοποίηση του πληθυσμού για την υποστήριξη μιας σύγκρουσης που διεξαγόταν με εξελιγμένα οπλικά συστήματα σε ευρύτατη γεωγραφική κλίμακ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Εμφάνιση, επέκταση και αναδιάρθρωση</a:t>
            </a:r>
            <a:endParaRPr b="0" lang="en-US" sz="3800" spc="-1" strike="noStrike">
              <a:solidFill>
                <a:srgbClr val="660033"/>
              </a:solidFill>
              <a:latin typeface="Times New Roman"/>
            </a:endParaRPr>
          </a:p>
        </p:txBody>
      </p:sp>
      <p:sp>
        <p:nvSpPr>
          <p:cNvPr id="11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Χαρακτηριστικά δυτικού κράτος</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Συγκεντρωτισμό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Προτυποποίηση</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Μηχανισμοί εξουσία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Κινητοποίηση</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Διαφοροποίηση</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Λειτουργίε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Μέγεθος</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Εμφάνιση, επέκταση και αναδιάρθρωση</a:t>
            </a:r>
            <a:endParaRPr b="0" lang="en-US" sz="3800" spc="-1" strike="noStrike">
              <a:solidFill>
                <a:srgbClr val="660033"/>
              </a:solidFill>
              <a:latin typeface="Times New Roman"/>
            </a:endParaRPr>
          </a:p>
        </p:txBody>
      </p:sp>
      <p:sp>
        <p:nvSpPr>
          <p:cNvPr id="11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κεϊνσιανό κοινωνικό κράτος (keynesian welfare state) συνδύαζε αντικυκλικές οικονομικές πολιτικές για τον περιορισμό της ανεργίας, με την παροχή από το κράτος υπηρεσιών περίθαλψης και στέγασης και εγγυήσεων διατήρησης των εισοδημάτων.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Ασφάλεια και παρακολούθηση </a:t>
            </a:r>
            <a:endParaRPr b="0" lang="en-US" sz="4200" spc="-1" strike="noStrike">
              <a:solidFill>
                <a:srgbClr val="660033"/>
              </a:solidFill>
              <a:latin typeface="Times New Roman"/>
            </a:endParaRPr>
          </a:p>
        </p:txBody>
      </p:sp>
      <p:sp>
        <p:nvSpPr>
          <p:cNvPr id="12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a:solidFill>
                  <a:srgbClr val="000000"/>
                </a:solidFill>
                <a:latin typeface="Arial"/>
              </a:rPr>
              <a:t>Η ανάδειξη μιας κατάστασης που έχει ονομαστεί και «κράτος ασφάλειας» προκάλεσε αναμενόμενα αντιδράσεις. Διάφορες ομάδες διατύπωσαν τις ανησυχίες τους:</a:t>
            </a:r>
            <a:endParaRPr b="0" lang="en-US" sz="2800" spc="-1" strike="noStrike">
              <a:solidFill>
                <a:srgbClr val="000000"/>
              </a:solidFill>
              <a:latin typeface="Arial"/>
            </a:endParaRPr>
          </a:p>
          <a:p>
            <a:pPr lvl="1" marL="743040" indent="-285840">
              <a:lnSpc>
                <a:spcPct val="90000"/>
              </a:lnSpc>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Για την ανάπτυξη μιας κοινωνίας παρακολούθησης.</a:t>
            </a:r>
            <a:endParaRPr b="0" lang="en-US" sz="2600" spc="-1" strike="noStrike">
              <a:solidFill>
                <a:srgbClr val="000000"/>
              </a:solidFill>
              <a:latin typeface="Arial"/>
            </a:endParaRPr>
          </a:p>
          <a:p>
            <a:pPr lvl="1" marL="743040" indent="-285840">
              <a:lnSpc>
                <a:spcPct val="90000"/>
              </a:lnSpc>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Για την απειλή που δέχονται οι πολιτικές ελευθερίες.</a:t>
            </a:r>
            <a:endParaRPr b="0" lang="en-US" sz="2600" spc="-1" strike="noStrike">
              <a:solidFill>
                <a:srgbClr val="000000"/>
              </a:solidFill>
              <a:latin typeface="Arial"/>
            </a:endParaRPr>
          </a:p>
          <a:p>
            <a:pPr lvl="1" marL="743040" indent="-285840">
              <a:lnSpc>
                <a:spcPct val="90000"/>
              </a:lnSpc>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Για την περιορισμένη λογοδοσία των μυστικών υπηρεσιών.</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2T06:59:52Z</dcterms:created>
  <dc:creator>pc</dc:creator>
  <dc:description/>
  <dc:language>en-US</dc:language>
  <cp:lastModifiedBy>EPIMELEIA</cp:lastModifiedBy>
  <dcterms:modified xsi:type="dcterms:W3CDTF">2013-09-23T08:35:05Z</dcterms:modified>
  <cp:revision>2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